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7.gif" ContentType="image/gif"/>
  <Override PartName="/ppt/media/image1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jpeg" ContentType="image/jpeg"/>
  <Override PartName="/ppt/media/image25.gif" ContentType="image/gif"/>
  <Override PartName="/ppt/media/image28.png" ContentType="image/png"/>
  <Override PartName="/ppt/media/image23.wmf" ContentType="image/x-wmf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9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5.jpeg" ContentType="image/jpeg"/>
  <Override PartName="/ppt/media/image26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FCD-6947-4034-B860-4DB7431B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BC8-3778-43C7-9C6C-A486C692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73FC-B016-4295-AE3A-749776E3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EF4-50B0-4F47-96B3-EAF60C15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F67-E4CA-4226-A3C6-189F9E4A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3AB1-13AB-47C0-A730-58588F3C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151D-37CF-4F2F-AB0E-1CE91879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422-9D9B-4DDF-9DD8-FAE39ED2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02B-4396-43A9-88FA-CFE8C6C3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CE0B-E9F4-4E5E-ACF5-BEBAEC78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D42-EB83-433C-93A3-E8797936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62A1-B8B5-4432-B9CB-56353459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F2AC-875E-4E8B-B270-0569955C7D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6.jpeg"/><Relationship Id="rId3" Type="http://schemas.openxmlformats.org/officeDocument/2006/relationships/image" Target="../media/image14.wmf"/><Relationship Id="rId4" Type="http://schemas.openxmlformats.org/officeDocument/2006/relationships/image" Target="../media/image27.gif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Вредные привычки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Автор презентации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МОУ Селищенской средней школы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Тихомирова Наталья Геннадьевна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2" name="Рисунок 4" descr="https://myslide.ru/documents_4/a9282dfb3d06545f2854a233996502e0/img1.jpg"/>
          <p:cNvPicPr/>
          <p:nvPr/>
        </p:nvPicPr>
        <p:blipFill>
          <a:blip r:embed="rId1"/>
          <a:stretch/>
        </p:blipFill>
        <p:spPr>
          <a:xfrm>
            <a:off x="250920" y="1413000"/>
            <a:ext cx="3313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brain"/>
          <p:cNvPicPr/>
          <p:nvPr/>
        </p:nvPicPr>
        <p:blipFill>
          <a:blip r:embed="rId2"/>
          <a:stretch/>
        </p:blipFill>
        <p:spPr>
          <a:xfrm>
            <a:off x="1619280" y="260280"/>
            <a:ext cx="5889600" cy="6597720"/>
          </a:xfrm>
          <a:prstGeom prst="rect">
            <a:avLst/>
          </a:prstGeom>
          <a:ln w="0">
            <a:noFill/>
          </a:ln>
        </p:spPr>
      </p:pic>
      <p:sp>
        <p:nvSpPr>
          <p:cNvPr id="163" name="WordArt 6"/>
          <p:cNvSpPr txBox="1"/>
          <p:nvPr/>
        </p:nvSpPr>
        <p:spPr>
          <a:xfrm>
            <a:off x="395280" y="3933720"/>
            <a:ext cx="3168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зг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5"/>
          <p:cNvSpPr/>
          <p:nvPr/>
        </p:nvSpPr>
        <p:spPr>
          <a:xfrm>
            <a:off x="2556000" y="333360"/>
            <a:ext cx="3744720" cy="2303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Уче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доказ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1187280" y="1052640"/>
            <a:ext cx="1368720" cy="2881080"/>
          </a:xfrm>
          <a:custGeom>
            <a:avLst/>
            <a:gdLst>
              <a:gd name="textAreaLeft" fmla="*/ 183240 w 1368720"/>
              <a:gd name="textAreaRight" fmla="*/ 1185480 w 1368720"/>
              <a:gd name="textAreaTop" fmla="*/ 504000 h 2881080"/>
              <a:gd name="textAreaBottom" fmla="*/ 2088720 h 28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flipH="1">
            <a:off x="6442920" y="1125360"/>
            <a:ext cx="1368360" cy="28814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504000 h 2881440"/>
              <a:gd name="textAreaBottom" fmla="*/ 208908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395280" y="4076640"/>
            <a:ext cx="324000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7c777"/>
              </a:gs>
              <a:gs pos="50000">
                <a:srgbClr val="ffff99"/>
              </a:gs>
              <a:gs pos="100000">
                <a:srgbClr val="c7c7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Blaze"/>
              </a:rPr>
              <a:t>Ку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Blaze"/>
              </a:rPr>
              <a:t>сокращ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Blaze"/>
              </a:rPr>
              <a:t>жизнь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Blaze"/>
              </a:rPr>
              <a:t>на </a:t>
            </a:r>
            <a:r>
              <a:rPr b="0" lang="ru-RU" sz="4000" spc="-1" strike="noStrike">
                <a:solidFill>
                  <a:srgbClr val="cc3300"/>
                </a:solidFill>
                <a:latin typeface="Arial Black"/>
              </a:rPr>
              <a:t>5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cc3300"/>
                </a:solidFill>
                <a:latin typeface="Blaze"/>
              </a:rPr>
              <a:t>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/>
          <p:cNvSpPr/>
          <p:nvPr/>
        </p:nvSpPr>
        <p:spPr>
          <a:xfrm>
            <a:off x="4211640" y="4076640"/>
            <a:ext cx="4753080" cy="27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7c777"/>
              </a:gs>
              <a:gs pos="50000">
                <a:srgbClr val="ffff99"/>
              </a:gs>
              <a:gs pos="100000">
                <a:srgbClr val="c7c7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Blaze"/>
              </a:rPr>
              <a:t>Курящих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Blaze"/>
              </a:rPr>
              <a:t>в возрасте </a:t>
            </a: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40-49 </a:t>
            </a:r>
            <a:r>
              <a:rPr b="0" lang="ru-RU" sz="2400" spc="-1" strike="noStrike">
                <a:solidFill>
                  <a:srgbClr val="cc3300"/>
                </a:solidFill>
                <a:latin typeface="Blaze"/>
              </a:rPr>
              <a:t>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Blaze"/>
              </a:rPr>
              <a:t>умирает в </a:t>
            </a: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3</a:t>
            </a:r>
            <a:r>
              <a:rPr b="0" lang="ru-RU" sz="2400" spc="-1" strike="noStrike">
                <a:solidFill>
                  <a:srgbClr val="cc3300"/>
                </a:solidFill>
                <a:latin typeface="Blaze"/>
              </a:rPr>
              <a:t> раза больш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Blaze"/>
              </a:rPr>
              <a:t>чем некурящ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Blaze"/>
              </a:rPr>
              <a:t>а возрасте </a:t>
            </a: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60-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Blaze"/>
              </a:rPr>
              <a:t>лет – в </a:t>
            </a: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19раз</a:t>
            </a:r>
            <a:r>
              <a:rPr b="0" lang="ru-RU" sz="2400" spc="-1" strike="noStrike">
                <a:solidFill>
                  <a:srgbClr val="cc3300"/>
                </a:solidFill>
                <a:latin typeface="Blaze"/>
              </a:rPr>
              <a:t> 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39640" y="404640"/>
            <a:ext cx="626436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Blaze"/>
              </a:rPr>
              <a:t>Никотин – это сильный я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nosmoke"/>
          <p:cNvPicPr/>
          <p:nvPr/>
        </p:nvPicPr>
        <p:blipFill>
          <a:blip r:embed="rId2"/>
          <a:stretch/>
        </p:blipFill>
        <p:spPr>
          <a:xfrm>
            <a:off x="250920" y="333360"/>
            <a:ext cx="2017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7"/>
          <p:cNvGrpSpPr/>
          <p:nvPr/>
        </p:nvGrpSpPr>
        <p:grpSpPr>
          <a:xfrm>
            <a:off x="1476360" y="260280"/>
            <a:ext cx="6264360" cy="1366920"/>
            <a:chOff x="1476360" y="260280"/>
            <a:chExt cx="6264360" cy="1366920"/>
          </a:xfrm>
        </p:grpSpPr>
        <p:sp>
          <p:nvSpPr>
            <p:cNvPr id="172" name="AutoShape 4"/>
            <p:cNvSpPr/>
            <p:nvPr/>
          </p:nvSpPr>
          <p:spPr>
            <a:xfrm>
              <a:off x="1476360" y="260280"/>
              <a:ext cx="6264360" cy="1366920"/>
            </a:xfrm>
            <a:custGeom>
              <a:avLst/>
              <a:gdLst>
                <a:gd name="textAreaLeft" fmla="*/ 160920 w 6264360"/>
                <a:gd name="textAreaRight" fmla="*/ 6103440 w 6264360"/>
                <a:gd name="textAreaTop" fmla="*/ 160920 h 1366920"/>
                <a:gd name="textAreaBottom" fmla="*/ 1206000 h 1366920"/>
              </a:gdLst>
              <a:ahLst/>
              <a:rect l="textAreaLeft" t="textAreaTop" r="textAreaRight" b="textAreaBottom"/>
              <a:pathLst>
                <a:path w="98969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5369" y="21600"/>
                  </a:lnTo>
                  <a:arcTo wR="3600" hR="3600" stAng="10800000" swAng="5400000"/>
                  <a:lnTo>
                    <a:pt x="98969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1835280" y="404640"/>
              <a:ext cx="547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3300"/>
                  </a:solidFill>
                  <a:latin typeface="Aktau"/>
                </a:rPr>
                <a:t> </a:t>
              </a:r>
              <a:r>
                <a:rPr b="1" lang="ru-RU" sz="3200" spc="-1" strike="noStrike">
                  <a:solidFill>
                    <a:srgbClr val="cc3300"/>
                  </a:solidFill>
                  <a:latin typeface="Georgia"/>
                </a:rPr>
                <a:t>Последствия кур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6"/>
          <p:cNvSpPr/>
          <p:nvPr/>
        </p:nvSpPr>
        <p:spPr>
          <a:xfrm>
            <a:off x="324000" y="1773360"/>
            <a:ext cx="845964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ьезный вред здоро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нижение умственных способностей у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ligraphic"/>
              </a:rPr>
              <a:t>Некурящий, длительно находящийся в прокуренном помещении, может серьезно забол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ничтожается красота человека, особенно женщ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приятный запах изо рта курильщ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4"/>
          <p:cNvGrpSpPr/>
          <p:nvPr/>
        </p:nvGrpSpPr>
        <p:grpSpPr>
          <a:xfrm>
            <a:off x="5580000" y="981000"/>
            <a:ext cx="3095640" cy="3889440"/>
            <a:chOff x="5580000" y="981000"/>
            <a:chExt cx="3095640" cy="3889440"/>
          </a:xfrm>
        </p:grpSpPr>
        <p:pic>
          <p:nvPicPr>
            <p:cNvPr id="176" name="Picture 7" descr="легкие курильщика"/>
            <p:cNvPicPr/>
            <p:nvPr/>
          </p:nvPicPr>
          <p:blipFill>
            <a:blip r:embed="rId2"/>
            <a:stretch/>
          </p:blipFill>
          <p:spPr>
            <a:xfrm>
              <a:off x="6012000" y="981000"/>
              <a:ext cx="2560680" cy="25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8" descr="ambulnc1"/>
            <p:cNvPicPr/>
            <p:nvPr/>
          </p:nvPicPr>
          <p:blipFill>
            <a:blip r:embed="rId3"/>
            <a:stretch/>
          </p:blipFill>
          <p:spPr>
            <a:xfrm>
              <a:off x="5580000" y="3284640"/>
              <a:ext cx="3095640" cy="15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oup 13"/>
          <p:cNvGrpSpPr/>
          <p:nvPr/>
        </p:nvGrpSpPr>
        <p:grpSpPr>
          <a:xfrm>
            <a:off x="468360" y="765000"/>
            <a:ext cx="2408040" cy="4224600"/>
            <a:chOff x="468360" y="765000"/>
            <a:chExt cx="2408040" cy="4224600"/>
          </a:xfrm>
        </p:grpSpPr>
        <p:pic>
          <p:nvPicPr>
            <p:cNvPr id="179" name="Picture 9" descr="21"/>
            <p:cNvPicPr/>
            <p:nvPr/>
          </p:nvPicPr>
          <p:blipFill>
            <a:blip r:embed="rId4"/>
            <a:stretch/>
          </p:blipFill>
          <p:spPr>
            <a:xfrm>
              <a:off x="468360" y="765000"/>
              <a:ext cx="2408040" cy="31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0" descr="tulip06"/>
            <p:cNvPicPr/>
            <p:nvPr/>
          </p:nvPicPr>
          <p:blipFill>
            <a:blip r:embed="rId5"/>
            <a:stretch/>
          </p:blipFill>
          <p:spPr>
            <a:xfrm>
              <a:off x="684360" y="3789360"/>
              <a:ext cx="1904760" cy="120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Picture 11" descr="Новый рисунок (53)"/>
          <p:cNvPicPr/>
          <p:nvPr/>
        </p:nvPicPr>
        <p:blipFill>
          <a:blip r:embed="rId6"/>
          <a:stretch/>
        </p:blipFill>
        <p:spPr>
          <a:xfrm>
            <a:off x="2411280" y="404640"/>
            <a:ext cx="3672000" cy="33940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2"/>
          <p:cNvSpPr/>
          <p:nvPr/>
        </p:nvSpPr>
        <p:spPr>
          <a:xfrm>
            <a:off x="1116000" y="5229360"/>
            <a:ext cx="770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9933"/>
                </a:solidFill>
                <a:uFillTx/>
                <a:latin typeface="Arial"/>
              </a:rPr>
              <a:t>Выбирайте сами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2771640" y="4005360"/>
            <a:ext cx="411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урение или здоровье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5"/>
          <p:cNvSpPr txBox="1"/>
          <p:nvPr/>
        </p:nvSpPr>
        <p:spPr>
          <a:xfrm>
            <a:off x="1332000" y="692280"/>
            <a:ext cx="6264360" cy="51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ви разумом,</a:t>
            </a:r>
            <a:endParaRPr b="0" lang="en-US" sz="32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ак и лекаря</a:t>
            </a:r>
            <a:endParaRPr b="0" lang="en-US" sz="32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 надо</a:t>
            </a:r>
            <a:endParaRPr b="0" lang="en-US" sz="32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foto15"/>
          <p:cNvPicPr/>
          <p:nvPr/>
        </p:nvPicPr>
        <p:blipFill>
          <a:blip r:embed="rId2"/>
          <a:stretch/>
        </p:blipFill>
        <p:spPr>
          <a:xfrm>
            <a:off x="4267080" y="3768840"/>
            <a:ext cx="4876920" cy="30891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126" name="AutoShape 9"/>
          <p:cNvSpPr/>
          <p:nvPr/>
        </p:nvSpPr>
        <p:spPr>
          <a:xfrm>
            <a:off x="458640" y="324000"/>
            <a:ext cx="8140680" cy="14547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чему люди начинают кури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0"/>
          <p:cNvGrpSpPr/>
          <p:nvPr/>
        </p:nvGrpSpPr>
        <p:grpSpPr>
          <a:xfrm>
            <a:off x="1763640" y="2060640"/>
            <a:ext cx="3505320" cy="1993680"/>
            <a:chOff x="1763640" y="2060640"/>
            <a:chExt cx="3505320" cy="1993680"/>
          </a:xfrm>
        </p:grpSpPr>
        <p:pic>
          <p:nvPicPr>
            <p:cNvPr id="128" name="Picture 11" descr="PH02750G"/>
            <p:cNvPicPr/>
            <p:nvPr/>
          </p:nvPicPr>
          <p:blipFill>
            <a:blip r:embed="rId3"/>
            <a:stretch/>
          </p:blipFill>
          <p:spPr>
            <a:xfrm>
              <a:off x="2297160" y="2060640"/>
              <a:ext cx="2971800" cy="19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2" descr="WB01268_"/>
            <p:cNvPicPr/>
            <p:nvPr/>
          </p:nvPicPr>
          <p:blipFill>
            <a:blip r:embed="rId4"/>
            <a:stretch/>
          </p:blipFill>
          <p:spPr>
            <a:xfrm>
              <a:off x="1763640" y="3051000"/>
              <a:ext cx="342900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AutoShape 13"/>
          <p:cNvSpPr/>
          <p:nvPr/>
        </p:nvSpPr>
        <p:spPr>
          <a:xfrm flipH="1">
            <a:off x="1187280" y="5589720"/>
            <a:ext cx="2522880" cy="576000"/>
          </a:xfrm>
          <a:prstGeom prst="wedgeRoundRectCallout">
            <a:avLst>
              <a:gd name="adj1" fmla="val -115453"/>
              <a:gd name="adj2" fmla="val -42287"/>
              <a:gd name="adj3" fmla="val 16667"/>
            </a:avLst>
          </a:prstGeom>
          <a:solidFill>
            <a:srgbClr val="ffff99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юбопыт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5"/>
          <p:cNvSpPr/>
          <p:nvPr/>
        </p:nvSpPr>
        <p:spPr>
          <a:xfrm flipH="1">
            <a:off x="7666920" y="1916280"/>
            <a:ext cx="1260360" cy="576000"/>
          </a:xfrm>
          <a:prstGeom prst="wedgeRoundRectCallout">
            <a:avLst>
              <a:gd name="adj1" fmla="val -19648"/>
              <a:gd name="adj2" fmla="val 437875"/>
              <a:gd name="adj3" fmla="val 16667"/>
            </a:avLst>
          </a:prstGeom>
          <a:solidFill>
            <a:srgbClr val="ffff99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8"/>
          <p:cNvSpPr/>
          <p:nvPr/>
        </p:nvSpPr>
        <p:spPr>
          <a:xfrm flipH="1">
            <a:off x="468360" y="2708280"/>
            <a:ext cx="1800000" cy="2087640"/>
          </a:xfrm>
          <a:prstGeom prst="wedgeRoundRectCallout">
            <a:avLst>
              <a:gd name="adj1" fmla="val -182541"/>
              <a:gd name="adj2" fmla="val 41328"/>
              <a:gd name="adj3" fmla="val 16667"/>
            </a:avLst>
          </a:prstGeom>
          <a:solidFill>
            <a:srgbClr val="ffff99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ание быть похожим на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0"/>
          <p:cNvSpPr/>
          <p:nvPr/>
        </p:nvSpPr>
        <p:spPr>
          <a:xfrm flipH="1">
            <a:off x="4643280" y="1484280"/>
            <a:ext cx="2448000" cy="1800360"/>
          </a:xfrm>
          <a:prstGeom prst="wedgeRoundRectCallout">
            <a:avLst>
              <a:gd name="adj1" fmla="val 20555"/>
              <a:gd name="adj2" fmla="val 126277"/>
              <a:gd name="adj3" fmla="val 16667"/>
            </a:avLst>
          </a:prstGeom>
          <a:solidFill>
            <a:srgbClr val="ffff99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лагают (заставляют) взрослые реб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354"/>
          <p:cNvPicPr/>
          <p:nvPr/>
        </p:nvPicPr>
        <p:blipFill>
          <a:blip r:embed="rId1"/>
          <a:stretch/>
        </p:blipFill>
        <p:spPr>
          <a:xfrm>
            <a:off x="1908000" y="260280"/>
            <a:ext cx="5267520" cy="6597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128"/>
          <p:cNvPicPr/>
          <p:nvPr/>
        </p:nvPicPr>
        <p:blipFill>
          <a:blip r:embed="rId2"/>
          <a:stretch/>
        </p:blipFill>
        <p:spPr>
          <a:xfrm>
            <a:off x="179280" y="2997360"/>
            <a:ext cx="2419560" cy="36576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3"/>
          <p:cNvSpPr/>
          <p:nvPr/>
        </p:nvSpPr>
        <p:spPr>
          <a:xfrm rot="20896200">
            <a:off x="240840" y="198360"/>
            <a:ext cx="6346800" cy="2262240"/>
          </a:xfrm>
          <a:custGeom>
            <a:avLst/>
            <a:gdLst>
              <a:gd name="textAreaLeft" fmla="*/ 0 w 6346800"/>
              <a:gd name="textAreaRight" fmla="*/ 6347160 w 6346800"/>
              <a:gd name="textAreaTop" fmla="*/ 623880 h 2262240"/>
              <a:gd name="textAreaBottom" fmla="*/ 1638360 h 2262240"/>
            </a:gdLst>
            <a:ahLst/>
            <a:rect l="textAreaLeft" t="textAreaTop" r="textAreaRight" b="textAreaBottom"/>
            <a:pathLst>
              <a:path w="21600" h="21600">
                <a:moveTo>
                  <a:pt x="0" y="2979"/>
                </a:moveTo>
                <a:cubicBezTo>
                  <a:pt x="7200" y="-7574"/>
                  <a:pt x="14400" y="13532"/>
                  <a:pt x="21600" y="2979"/>
                </a:cubicBezTo>
                <a:lnTo>
                  <a:pt x="21600" y="18621"/>
                </a:lnTo>
                <a:cubicBezTo>
                  <a:pt x="14400" y="29174"/>
                  <a:pt x="7200" y="8068"/>
                  <a:pt x="0" y="18621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14"/>
          <p:cNvSpPr txBox="1"/>
          <p:nvPr/>
        </p:nvSpPr>
        <p:spPr>
          <a:xfrm rot="21222000">
            <a:off x="684360" y="691920"/>
            <a:ext cx="57560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181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рачи предупреждают...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0755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лияние курения на организм челове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Новый рисунок (60)"/>
          <p:cNvPicPr/>
          <p:nvPr/>
        </p:nvPicPr>
        <p:blipFill>
          <a:blip r:embed="rId2"/>
          <a:stretch/>
        </p:blipFill>
        <p:spPr>
          <a:xfrm>
            <a:off x="1476360" y="270828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Gauge"/>
          <p:cNvPicPr/>
          <p:nvPr/>
        </p:nvPicPr>
        <p:blipFill>
          <a:blip r:embed="rId3"/>
          <a:stretch/>
        </p:blipFill>
        <p:spPr>
          <a:xfrm>
            <a:off x="6029280" y="2205000"/>
            <a:ext cx="31147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14"/>
          <p:cNvGrpSpPr/>
          <p:nvPr/>
        </p:nvGrpSpPr>
        <p:grpSpPr>
          <a:xfrm>
            <a:off x="1692000" y="2480400"/>
            <a:ext cx="2955960" cy="2183760"/>
            <a:chOff x="1692000" y="2480400"/>
            <a:chExt cx="2955960" cy="2183760"/>
          </a:xfrm>
        </p:grpSpPr>
        <p:sp>
          <p:nvSpPr>
            <p:cNvPr id="142" name="Arc 4"/>
            <p:cNvSpPr/>
            <p:nvPr/>
          </p:nvSpPr>
          <p:spPr>
            <a:xfrm rot="5400000">
              <a:off x="2084040" y="2099880"/>
              <a:ext cx="2171880" cy="2955960"/>
            </a:xfrm>
            <a:custGeom>
              <a:avLst/>
              <a:gdLst>
                <a:gd name="textAreaLeft" fmla="*/ 0 w 2171880"/>
                <a:gd name="textAreaRight" fmla="*/ 2172240 w 2171880"/>
                <a:gd name="textAreaTop" fmla="*/ 0 h 2955960"/>
                <a:gd name="textAreaBottom" fmla="*/ 2956320 h 2955960"/>
              </a:gdLst>
              <a:ahLst/>
              <a:rect l="textAreaLeft" t="textAreaTop" r="textAreaRight" b="textAreaBottom"/>
              <a:pathLst>
                <a:path fill="none" w="16019" h="21600">
                  <a:moveTo>
                    <a:pt x="16018" y="14489"/>
                  </a:moveTo>
                  <a:cubicBezTo>
                    <a:pt x="11923" y="19016"/>
                    <a:pt x="6104" y="21599"/>
                    <a:pt x="0" y="21600"/>
                  </a:cubicBezTo>
                </a:path>
                <a:path stroke="0" w="16019" h="21600">
                  <a:moveTo>
                    <a:pt x="16018" y="14489"/>
                  </a:moveTo>
                  <a:cubicBezTo>
                    <a:pt x="11923" y="19016"/>
                    <a:pt x="6104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775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9"/>
            <p:cNvSpPr/>
            <p:nvPr/>
          </p:nvSpPr>
          <p:spPr>
            <a:xfrm rot="20227200">
              <a:off x="1980000" y="292392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6 млг никоти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5"/>
          <p:cNvGrpSpPr/>
          <p:nvPr/>
        </p:nvGrpSpPr>
        <p:grpSpPr>
          <a:xfrm>
            <a:off x="2469240" y="2478240"/>
            <a:ext cx="3803400" cy="3778200"/>
            <a:chOff x="2469240" y="2478240"/>
            <a:chExt cx="3803400" cy="3778200"/>
          </a:xfrm>
        </p:grpSpPr>
        <p:sp>
          <p:nvSpPr>
            <p:cNvPr id="145" name="Arc 8"/>
            <p:cNvSpPr/>
            <p:nvPr/>
          </p:nvSpPr>
          <p:spPr>
            <a:xfrm rot="8248800">
              <a:off x="2916000" y="3141360"/>
              <a:ext cx="2909880" cy="2454120"/>
            </a:xfrm>
            <a:custGeom>
              <a:avLst/>
              <a:gdLst>
                <a:gd name="textAreaLeft" fmla="*/ 0 w 2909880"/>
                <a:gd name="textAreaRight" fmla="*/ 2910240 w 2909880"/>
                <a:gd name="textAreaTop" fmla="*/ 0 h 2454120"/>
                <a:gd name="textAreaBottom" fmla="*/ 2454480 h 2454120"/>
              </a:gdLst>
              <a:ahLst/>
              <a:rect l="textAreaLeft" t="textAreaTop" r="textAreaRight" b="textAreaBottom"/>
              <a:pathLst>
                <a:path fill="none" w="21468" h="17950">
                  <a:moveTo>
                    <a:pt x="12014" y="0"/>
                  </a:moveTo>
                  <a:cubicBezTo>
                    <a:pt x="17306" y="3541"/>
                    <a:pt x="20765" y="9237"/>
                    <a:pt x="21468" y="15565"/>
                  </a:cubicBezTo>
                </a:path>
                <a:path stroke="0" w="21468" h="17950">
                  <a:moveTo>
                    <a:pt x="12014" y="0"/>
                  </a:moveTo>
                  <a:cubicBezTo>
                    <a:pt x="17306" y="3541"/>
                    <a:pt x="20765" y="9237"/>
                    <a:pt x="21468" y="15565"/>
                  </a:cubicBezTo>
                  <a:lnTo>
                    <a:pt x="0" y="1795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0"/>
            <p:cNvSpPr/>
            <p:nvPr/>
          </p:nvSpPr>
          <p:spPr>
            <a:xfrm rot="17062200">
              <a:off x="2862360" y="3625560"/>
              <a:ext cx="27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,6 млг аммиа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6"/>
          <p:cNvGrpSpPr/>
          <p:nvPr/>
        </p:nvGrpSpPr>
        <p:grpSpPr>
          <a:xfrm>
            <a:off x="4619160" y="2492280"/>
            <a:ext cx="2477880" cy="2909880"/>
            <a:chOff x="4619160" y="2492280"/>
            <a:chExt cx="2477880" cy="2909880"/>
          </a:xfrm>
        </p:grpSpPr>
        <p:sp>
          <p:nvSpPr>
            <p:cNvPr id="148" name="Arc 6"/>
            <p:cNvSpPr/>
            <p:nvPr/>
          </p:nvSpPr>
          <p:spPr>
            <a:xfrm rot="5400000">
              <a:off x="4415040" y="2719800"/>
              <a:ext cx="2909880" cy="2454120"/>
            </a:xfrm>
            <a:custGeom>
              <a:avLst/>
              <a:gdLst>
                <a:gd name="textAreaLeft" fmla="*/ 0 w 2909880"/>
                <a:gd name="textAreaRight" fmla="*/ 2910240 w 2909880"/>
                <a:gd name="textAreaTop" fmla="*/ 0 h 2454120"/>
                <a:gd name="textAreaBottom" fmla="*/ 2454480 h 2454120"/>
              </a:gdLst>
              <a:ahLst/>
              <a:rect l="textAreaLeft" t="textAreaTop" r="textAreaRight" b="textAreaBottom"/>
              <a:pathLst>
                <a:path fill="none" w="21468" h="17950">
                  <a:moveTo>
                    <a:pt x="12014" y="0"/>
                  </a:moveTo>
                  <a:cubicBezTo>
                    <a:pt x="17306" y="3541"/>
                    <a:pt x="20765" y="9237"/>
                    <a:pt x="21468" y="15565"/>
                  </a:cubicBezTo>
                </a:path>
                <a:path stroke="0" w="21468" h="17950">
                  <a:moveTo>
                    <a:pt x="12014" y="0"/>
                  </a:moveTo>
                  <a:cubicBezTo>
                    <a:pt x="17306" y="3541"/>
                    <a:pt x="20765" y="9237"/>
                    <a:pt x="21468" y="15565"/>
                  </a:cubicBezTo>
                  <a:lnTo>
                    <a:pt x="0" y="1795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 rot="3209400">
              <a:off x="4573440" y="3619800"/>
              <a:ext cx="2017800" cy="90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,03мл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нильной кисл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7"/>
          <p:cNvGrpSpPr/>
          <p:nvPr/>
        </p:nvGrpSpPr>
        <p:grpSpPr>
          <a:xfrm>
            <a:off x="4645080" y="2266920"/>
            <a:ext cx="3035520" cy="2023920"/>
            <a:chOff x="4645080" y="2266920"/>
            <a:chExt cx="3035520" cy="2023920"/>
          </a:xfrm>
        </p:grpSpPr>
        <p:sp>
          <p:nvSpPr>
            <p:cNvPr id="151" name="Arc 7"/>
            <p:cNvSpPr/>
            <p:nvPr/>
          </p:nvSpPr>
          <p:spPr>
            <a:xfrm rot="5400000">
              <a:off x="5224320" y="1915920"/>
              <a:ext cx="1795320" cy="2954160"/>
            </a:xfrm>
            <a:custGeom>
              <a:avLst/>
              <a:gdLst>
                <a:gd name="textAreaLeft" fmla="*/ 0 w 1795320"/>
                <a:gd name="textAreaRight" fmla="*/ 1795680 w 1795320"/>
                <a:gd name="textAreaTop" fmla="*/ 0 h 2954160"/>
                <a:gd name="textAreaBottom" fmla="*/ 2954520 h 2954160"/>
              </a:gdLst>
              <a:ahLst/>
              <a:rect l="textAreaLeft" t="textAreaTop" r="textAreaRight" b="textAreaBottom"/>
              <a:pathLst>
                <a:path fill="none" w="13253" h="21600">
                  <a:moveTo>
                    <a:pt x="-1" y="0"/>
                  </a:moveTo>
                  <a:cubicBezTo>
                    <a:pt x="4799" y="0"/>
                    <a:pt x="9462" y="1598"/>
                    <a:pt x="13252" y="4543"/>
                  </a:cubicBezTo>
                </a:path>
                <a:path stroke="0" w="13253" h="21600">
                  <a:moveTo>
                    <a:pt x="-1" y="0"/>
                  </a:moveTo>
                  <a:cubicBezTo>
                    <a:pt x="4799" y="0"/>
                    <a:pt x="9462" y="1598"/>
                    <a:pt x="13252" y="4543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cfb7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2"/>
            <p:cNvSpPr/>
            <p:nvPr/>
          </p:nvSpPr>
          <p:spPr>
            <a:xfrm rot="1491000">
              <a:off x="5074200" y="2780640"/>
              <a:ext cx="258948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5мл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угарного газ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3"/>
          <p:cNvSpPr/>
          <p:nvPr/>
        </p:nvSpPr>
        <p:spPr>
          <a:xfrm>
            <a:off x="1692360" y="1268280"/>
            <a:ext cx="5981760" cy="1191240"/>
          </a:xfrm>
          <a:prstGeom prst="rect">
            <a:avLst/>
          </a:prstGeom>
          <a:gradFill rotWithShape="0">
            <a:gsLst>
              <a:gs pos="0">
                <a:srgbClr val="d1d100"/>
              </a:gs>
              <a:gs pos="50000">
                <a:srgbClr val="ffff00"/>
              </a:gs>
              <a:gs pos="100000">
                <a:srgbClr val="d1d1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дыме 1 сигареты содержи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2" descr="ambulnc1"/>
          <p:cNvPicPr/>
          <p:nvPr/>
        </p:nvPicPr>
        <p:blipFill>
          <a:blip r:embed="rId2"/>
          <a:stretch/>
        </p:blipFill>
        <p:spPr>
          <a:xfrm>
            <a:off x="4284720" y="4292640"/>
            <a:ext cx="460836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 rot="5400000">
            <a:off x="5147640" y="2707920"/>
            <a:ext cx="5904000" cy="1297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ердце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6"/>
          <p:cNvGrpSpPr/>
          <p:nvPr/>
        </p:nvGrpSpPr>
        <p:grpSpPr>
          <a:xfrm>
            <a:off x="0" y="0"/>
            <a:ext cx="6840360" cy="6759360"/>
            <a:chOff x="0" y="0"/>
            <a:chExt cx="6840360" cy="6759360"/>
          </a:xfrm>
        </p:grpSpPr>
        <p:pic>
          <p:nvPicPr>
            <p:cNvPr id="157" name="Picture 4" descr="легкие курильщика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40360" cy="675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Oval 5"/>
            <p:cNvSpPr/>
            <p:nvPr/>
          </p:nvSpPr>
          <p:spPr>
            <a:xfrm>
              <a:off x="286920" y="176040"/>
              <a:ext cx="6408360" cy="6408720"/>
            </a:xfrm>
            <a:prstGeom prst="ellipse">
              <a:avLst/>
            </a:prstGeom>
            <a:noFill/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WordArt 7"/>
          <p:cNvSpPr txBox="1"/>
          <p:nvPr/>
        </p:nvSpPr>
        <p:spPr>
          <a:xfrm rot="5400000">
            <a:off x="4860720" y="2492280"/>
            <a:ext cx="6264360" cy="18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-2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лёгкие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4140360" y="260280"/>
            <a:ext cx="4464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be0e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убы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bbe0e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1" name="Picture 3" descr="airflow_smoker-m1"/>
          <p:cNvPicPr/>
          <p:nvPr/>
        </p:nvPicPr>
        <p:blipFill>
          <a:blip r:embed="rId1"/>
          <a:stretch/>
        </p:blipFill>
        <p:spPr>
          <a:xfrm>
            <a:off x="1187280" y="2637000"/>
            <a:ext cx="61945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9:40:48Z</dcterms:created>
  <dc:creator>макшакова</dc:creator>
  <dc:description/>
  <dc:language>en-US</dc:language>
  <cp:lastModifiedBy>uzer</cp:lastModifiedBy>
  <dcterms:modified xsi:type="dcterms:W3CDTF">2021-12-11T09:21:43Z</dcterms:modified>
  <cp:revision>32</cp:revision>
  <dc:subject/>
  <dc:title>Слайд 1</dc:title>
</cp:coreProperties>
</file>